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46EF-EEDA-4412-AC3A-AAE53CB5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0470-B814-4BFB-B578-0F47CC4F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D200C-25AA-4B75-84DE-7CB0CE37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ACF76-A564-4D6D-8474-F06BF3EB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B1FD6-F97C-4376-9B22-B9C8FAEE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E3202-B079-4168-B837-55241E6E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5195A-CC23-4399-ACD7-68566F45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9A13C-7261-4B19-A9B1-C4B8148C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CE1DD-A7E2-4006-90D8-12163F4A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DD4F4-A3F4-4ED3-BF3F-EFA6BE89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984A4-D3C6-4608-B618-680186B4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FE452-3B77-4BFC-BB76-32DC437D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BEFF-0CBA-4F33-9F92-DCD4A770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676A7-43DD-4812-9877-0E2375B0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578F5-B16E-40DB-B3BC-B324C058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CC86F-1528-4C6A-922B-117FA2E8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1A150-167E-4599-836D-11DB80BF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7EC96-DEBB-493C-A28A-865541F5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DD556-5820-4651-B49F-713AF67C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75F30-1DEC-488D-925F-6FB4DC16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BC09B-5664-457F-B44C-F4EAD5DD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FF44E-14F1-4654-BE75-A8A095B4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D9B35-BE02-4F36-AB1F-617B9A48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27C2-82E9-4F5D-B882-92558B40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8A232-C3BA-41F0-93C9-6419ABC4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E5B96-BF82-4377-8085-0953C56E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00763-9F9F-4AD5-9502-7D9ABC40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41042-BD1F-4F3C-964A-4F96EF62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C6B97-E760-4CEC-8DB5-29810D04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8979F-1BD7-45FE-BC70-17FE6C63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18576-EFB7-4AE3-BBB2-41F55A53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967F6-97AF-4427-B814-F92DA616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16F92-3E1E-4777-AF62-F9A911A0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05F62-859F-495E-8778-6133C868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2CD0-CD09-4DE6-AF06-F28E1EB5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B6575-2432-40BE-BCBA-5995AD19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246B9-C110-4067-9F87-759D2348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B384B-802D-4B64-81DD-83D9A919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0350F-568C-4332-BB14-248A0233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5C8CF-974C-4A75-AF4A-333BA5AD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E932B-29D8-4B36-A34A-26A0FD5E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DCAF6-0ECC-4E01-B2ED-69CA55CF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C447C-096F-416A-9A4C-ADB77E9C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578E6-2F2D-4923-B289-587C5E15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FAAFD-0903-48A9-89F9-181D9C20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C67B-0A7A-476A-9D84-451845C2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A2929-938E-48A1-8A2E-FD6E89A7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21BF3-3F9E-4A9C-AD56-7F39DC5A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93FF7-A8A2-4FF8-9437-937F8067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7FE07-BAEA-46ED-A121-6E4D4BF8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3DCF3-4A4B-4571-9D19-673FE25D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0A65E0-4BD8-4A85-B508-0B346DCC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4DD58-22FE-46F9-A6D5-4DAF631A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8B0A3E-56E9-44A8-86CE-A68E393F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6354E0-18E5-4D50-A752-6EA99C34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851F60-2E2A-4970-B77A-4095102F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FBAC-65AF-46D8-825C-F6C74A07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F6A944-BFB2-43B6-99D8-EEDE7509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62A0A5-E9AC-4F07-B5FD-A18211C7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0F2A69-F12C-42A4-8151-2F449B7C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7BDC2E-83F0-4D4E-BA00-F9ED3BDA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CF1DFF-2588-42E8-949D-8953AA49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B0AE52-0B41-4297-BEAB-1C7BE2A5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E4F4D4-D794-4C1C-B2C0-DC3E248C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DAADB3-DBAA-40F9-B8FB-852A4850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A42F54-C267-4430-88D9-93377E82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FF69B8-5399-42D5-AEC0-B0FDCBAA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9854-F0C2-4CC4-8500-31FE9C9A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063225-BE8A-44F2-8C55-C0633C11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C4E804-45A8-4989-99A6-073354CC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DD8B0A-97AD-4BB1-A18B-EF2BDA8F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829DB3-E519-4FAC-A1B0-B2CD6763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C698DB-1C84-4E1E-99BD-D64DFA41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88A9A3-4C4E-41C3-92BC-D7026C27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1573D5-CCE7-4F30-AA58-77A82EEC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B29BBF-5F4F-4937-A30C-00EE6D28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EBA0ED-672A-4726-BA0A-D5F79110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4BEA19-53D5-4AAB-984B-D90CDD95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CABC-AE3A-4458-B162-377433EF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0AB581-BA1E-43AC-86B5-C5B015DA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99100D-E0B6-4FFC-86D1-8489466C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4789F9-BD81-4547-8C84-DA3A9E92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E28275-C270-4B84-90E7-068EE583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061502-408A-4471-84EC-D12CE34E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EA56B2-543A-46F3-A7EB-4CFE8AE5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9FDBD3-06FF-4482-B85E-FDC58D1C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A12886-E42A-42AA-859A-890C0FC5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2553F8-46E1-402D-A444-D6EB47FB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393B7A-ED98-44DF-BE29-EAA9A1D0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7EB2-F4B7-4E51-A647-321EECA6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D801AF-13AA-42AF-AD91-31B17A27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5ED289-133A-45D9-9340-F36735F6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400D89-81CA-43C1-A3DA-C139AFB1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F0A502-70ED-4415-A1E3-F1B881F6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75CAE3-D300-40A5-A5B9-78F22E13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E8E6B1-608B-45EC-AC50-B32D47B6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FF5B63-E0A1-4D05-93CA-2229FAAF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F9BB9F-93AF-4218-9E97-0946EC7E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66DDAA-3919-49F5-A38E-548A72FD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186224-C269-4FAE-9083-A7FF17A6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9A59-6E9A-434C-9102-3F59C1CA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B53C57-7E9F-4D6A-92A3-B380EC1D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17E4CC-34B9-4721-BA0F-C1A7AB1D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4E768E-345A-4776-9487-FC63BE9D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58A4F6-A8E4-49AE-9FA0-19836ED2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14A148-B059-44D7-A1D1-A94365E3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01500F-49EC-419A-82FC-5FA355B6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B05609-D08D-4EB6-9E36-BEAF1E47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08D30F-75E1-4839-87CF-B7723D21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46B4CC-9F02-40DE-B71F-BCB96570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8CB2C2-9F08-490A-A97C-FF91C6A6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1FDE-AB7F-452F-8380-BB853FF0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4CD7-18BC-424F-8255-7107386D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60F877-C509-4A74-A933-B5F46E9E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0CB05C-D4E8-4070-8D24-EEBFA926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DB7897-9F62-4E36-80E0-3F314E58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752C64-6A83-47B3-803D-27BD520F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B20A42-5B14-45AF-BC15-D88CAD0D6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344988-1924-4F1B-AA0C-3F0187A7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AF98D0-7446-4383-AFFB-CFE81D93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1F8B75-16CA-4200-BD56-222159BA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91DB1A-1575-4027-8B51-62DD5DE1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42D792-9EA7-4446-8443-65BBFB86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8AAB-2D6E-4EA2-8FF8-4E942FF8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2DEA8C-2E58-45D8-8D2C-141C0973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5D315C-24A2-4D7C-A46B-417B3D21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FABE4B-9DD6-4913-9C38-63620679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445A2D-7E29-49A4-89A2-ACF53EA8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EE2F72-91AC-4F64-AC37-43D92177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AA6C85-5D97-4218-BE36-D53BD16B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443EC1-9BDC-43A3-B2EC-F18270423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B32A48-C8AD-4AC5-9897-D8291E9E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41A168-A1F3-4597-AE27-7ADC2417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4A9FF7-A1A9-4D79-98BE-F564A4A4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FEE8-26BD-41BC-9F1F-3A0A5507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B30D0B-7D43-44E8-A180-8A1E9F05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16A83B-9BA9-44FF-B7CE-98F2CA7C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39CD04-4554-4727-B06C-7C1C03D9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C7BD5E-291D-423F-8C9C-E2D30B82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734564-8EA3-4C33-8E47-96ACC220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DCFA50-A608-429A-9462-273039B2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2E1666-BC40-4CB9-A8AD-DF5B77F7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A97DEE-25CC-443B-9C9E-F4F464DE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91E5E1-47F3-4272-9D90-7E8ECA0A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2D7473-682D-4696-B99F-8BE7F6AD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C51B-B80B-464E-8C47-43DC38E4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02C635-D40D-41F8-AA0D-D6B460C4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CE4756-D0C6-4EAF-B491-9AD4ACF2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C3BAA2-5529-4815-89C3-1D92BCA8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77A1E5-FA84-404E-806D-56F31F30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2BBC05-3A30-40D7-8BAA-36454CEF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FCDE8E-52D6-4CEF-BE9B-3181C16B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A10935-6507-43B4-8337-B7029F42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A16985-D900-48BA-AF12-607C83C8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F1313F-136C-4E6F-88D5-22F04F80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EDCDAE-2172-4DC4-98E1-6FA07EB7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58F8-4E03-4EF6-8D7A-68860AF4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043B1A-17DF-4919-8A7C-62F42E9E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077F40-EB00-4239-8C2C-20C7B281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116A26-54FA-47DB-A8F1-276EEFA9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EE453E-309F-4995-94A2-5F287C64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F0F57F-75FF-45B8-9428-8D39F96A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BEB7DA-AB1C-4761-A22B-0A76D1E2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A501A4-5652-4B6B-BECA-E7CCAE9C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06C23D-0390-4880-8B48-ADF37F99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33DE3E-E080-4E56-861B-8A24F870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3C0D0C-A440-4A72-ACCF-D15587E4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2C809-E6B3-4E0F-B88D-CD22E591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C00C5C-7FDD-4630-B52F-EAE55AEA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FF337A-150A-40E8-9AD8-E5062820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9A2BDB-439F-4F78-90B4-FC42B8E5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B1CA0-837B-4DF0-9E65-158C038D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DB20A-AE84-404E-ADA3-3CC2849C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184FA-5B33-4AF6-9B62-105BADB4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CB98B-2A23-40CD-8A39-19AF1EE6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C0FE-3943-4AA7-948A-19E1EEEF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5671D-482D-48DB-8B89-60F67B93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EBBC0-E930-45DE-9EE5-85D916FD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066DF-AAA8-4330-BC08-6DEA549D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01971-ABBE-47D3-ABE2-144900E7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D2FA1-6242-4465-BBA7-84D8F62E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50534-29A0-4FEB-8B6A-924C95457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5F12D-24C4-4BF1-8C94-2022BE10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C0A1C-7FB7-437D-8A36-E99DC674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61917-ED86-4342-81CF-AA83710F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CD19B-1C4D-4AC1-84EB-4A274395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A901-D604-4F96-8013-024032B1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A9867-1FA7-4273-BF48-B83C6756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ED4CE-F13A-422B-A580-99CA5445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010D7-CDF6-421B-8AD1-C3BA4D23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CEDD9-DC02-452C-9C37-8D56EFA8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E16C5-E751-447E-B396-DD9209CE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3A49F-5C9F-4684-BB8C-C334C82C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A3600-E252-4838-97C1-C7F42F55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28509-2A33-4CE8-BBD0-F3760E8B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3C6EB-5CC1-4D15-821D-7B69FC54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438F9-B158-449A-8B6B-F32D4C5C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A3CC-87AB-406C-91FE-6B601819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89CDC-F59A-47BA-9505-162E6FA2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30788-2DEB-496C-B423-3BD01C28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64281-27AE-4782-810D-13E4FB70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B6D0C-FF74-4FF9-BF93-F27DB772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241DE-C3A6-4299-8596-09EB7C6D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40238-3030-4B5D-8CCD-727F7DCD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ED272-E921-4967-934A-3B14F0E3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3127C-D51C-466B-8F5E-BA1A46ED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9305A-966B-45C8-BE52-BA5A3B0F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29AB2-59F3-4827-9554-00989550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C4C1-F978-49C7-B96D-02404A1D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34CF4-766D-4C56-A71C-59EAFAD6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57CD1-6BCA-4C31-97A8-CF0B3702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FBC2E-473E-460C-9EE8-3CDEAB97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6AE09-3B3C-4FDB-B5A8-84675966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D5A2D-0B51-4429-AE8A-C2B64C55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3427A-D959-404E-AA9A-BE7A2E13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0AEFE-50D3-4539-9826-51FA2F21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BE392-BCA5-401F-8D03-D12F2F7D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33FAD-58E0-4CE3-9B81-210C9DF7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7E3AB-EFA2-41F6-9DAF-0EC4C127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658B-FC69-4B35-809D-F4AE3E23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12A0A-8FA4-4915-A1A2-5250B4CD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70A78-9111-469E-8C07-4941B1EA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65C6C-F3D7-4593-844F-00926045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45CDE-0D9A-400B-A3A4-6EF1110F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3D160-67D7-4E55-8D1B-48AA72E4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F2904-6D43-466D-9AD6-5245A336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AD1C0-B7CD-4A64-9590-1470C61A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550E4-BF07-415C-8DC4-3A13FDAD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63B68-5FA6-44E2-9539-D79FA29D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3BA82-2125-4D09-8F1A-ECBF2A1F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0AA9-BC0C-45B2-A0F9-685DE942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9EE47-5BE0-4F33-BBD2-282E9633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A33DA-3C15-4E66-99BF-0D8A2DF0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C942A-0A00-4109-96E6-7EDE9E4D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15484-E2FF-41C7-94DF-782574DF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244BD-BDB0-44E5-9180-46409C86A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CC4F6-0FDD-43BE-B737-CB3D82B8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3D251-AF07-45C1-A482-A35FF4F4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A2880-66F1-466E-ADCE-2EE9B3DE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5A7A0-B128-401A-AEA5-FD208602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F9506-9270-4729-8F66-8B474EFD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0F2C-777D-4F45-AA2D-8324A2F3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8F319-6F0B-445A-A81E-7FABFAEE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9A074-3565-421F-988E-97CB389E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1E505-09FA-4E6A-B483-51299FFD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D27A2-B198-4989-86FA-06DB5BF3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F0A29-88D5-48A6-88B3-389A9358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A142B-F526-48FE-9020-474A6BB5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B51E7-2A20-420E-8017-06DD0018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85CC5-81A4-41C2-91CB-CB69D4EC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58A5C-0167-49D4-ACEB-065A4B49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38B2B-8192-4509-922D-C2BD26D3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B3EF-2105-4A6A-A0E0-E90A6E3F3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8E44-6F95-4188-954D-8AD63CD698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BCC6-0688-473D-9824-40680C02D1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F920-B987-498C-9CDC-BD604B4EB1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4E25-EEA1-4FD5-B935-3DFFC2CCF2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8352-3B64-4759-8372-6F7D7964F2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F4FC-548E-41DF-868C-269E496B98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A602-B11C-4033-A335-6EDA478DE2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A848-7F84-4E35-B278-AC6C23161B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8AFD-EDD6-41B1-9238-D4FCF5EE19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75FF-AC23-415D-A1F5-45C8C08197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C4A9-286E-4C1E-B216-223B3ECC23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FE8E-74FD-4207-8DA1-95731CA9E5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3022-9252-44F7-8B04-82982FE46A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71AF-BA30-4B97-BAD7-790DE1E3C8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01C1-6505-4E4B-8178-2DF966F42C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2727-5192-4016-A53E-31586A42CD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D4C6-CB12-48CA-9AD5-8783E8138E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9961-2B2F-4D8D-8A7D-C809CB6A91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6D35-7CF4-4CA3-BF22-54AFC7DA27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F53D-804D-4166-8CB2-C9444C300F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FA63-9F4B-439C-953F-4C30CA1DC4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BC83-9C0F-4399-8005-7DD45D5D21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2200-CF3E-4599-B856-61D4829901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EED0-1DD6-4018-B708-5CE430D6A7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0617-30C5-4B25-A8C1-DE56983138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6AE4-E749-4799-B122-E3DD6FF3F4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7D40-587A-4DDA-B881-966A1316C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273F-4304-4EE7-B2B4-FD973F6C48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9686-95E2-4109-9488-6925F4F88E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5F19-C05E-42EC-BDB2-08A14F00A7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B375-B40A-412D-A1CC-C95BD40EC6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1C04-7F8D-4D9A-989F-C5F758A4F7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674A-9ED8-4131-9CED-CF970751F2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3FC0-4695-4B6B-A6BF-37B6DD47B4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F90E-8C29-4FE7-A682-3C262946C6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7374-3ECE-45EF-99EC-D28C1AF159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97AF-126D-43A1-B5EA-2AF40160C4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4731-B0A2-4F35-8C9A-CA0E1BBD80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23C4-5993-41F1-9EF6-2E99F91964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019160" y="2914560"/>
            <a:ext cx="71056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73080" y="1395360"/>
            <a:ext cx="8997840" cy="48164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692360" y="2736720"/>
            <a:ext cx="718920" cy="3366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4716360" y="2751120"/>
            <a:ext cx="719280" cy="3366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8028000" y="2751120"/>
            <a:ext cx="719280" cy="3366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2050920" y="4062240"/>
            <a:ext cx="719280" cy="3366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5148360" y="4062240"/>
            <a:ext cx="1079280" cy="3366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8244000" y="4062240"/>
            <a:ext cx="718920" cy="3366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1692360" y="4494240"/>
            <a:ext cx="1584360" cy="3366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5364000" y="4508640"/>
            <a:ext cx="2592720" cy="3362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1"/>
          <a:stretch/>
        </p:blipFill>
        <p:spPr>
          <a:xfrm>
            <a:off x="2195640" y="4941720"/>
            <a:ext cx="1368360" cy="3366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2"/>
          <a:stretch/>
        </p:blipFill>
        <p:spPr>
          <a:xfrm>
            <a:off x="5508720" y="4941720"/>
            <a:ext cx="1655640" cy="3366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13"/>
          <a:stretch/>
        </p:blipFill>
        <p:spPr>
          <a:xfrm>
            <a:off x="1692360" y="5402160"/>
            <a:ext cx="1368360" cy="3366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14"/>
          <a:stretch/>
        </p:blipFill>
        <p:spPr>
          <a:xfrm>
            <a:off x="4859280" y="5388120"/>
            <a:ext cx="1368360" cy="3362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15"/>
          <a:stretch/>
        </p:blipFill>
        <p:spPr>
          <a:xfrm>
            <a:off x="8028000" y="5388120"/>
            <a:ext cx="936720" cy="3362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16"/>
          <a:stretch/>
        </p:blipFill>
        <p:spPr>
          <a:xfrm>
            <a:off x="1835280" y="5834160"/>
            <a:ext cx="93636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104760" y="2643120"/>
            <a:ext cx="8934480" cy="15717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2411280" y="2852640"/>
            <a:ext cx="865440" cy="449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5364000" y="2838600"/>
            <a:ext cx="432000" cy="449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8101080" y="2824200"/>
            <a:ext cx="1042920" cy="4492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1619280" y="3371760"/>
            <a:ext cx="1042920" cy="3333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4643280" y="3371760"/>
            <a:ext cx="1043280" cy="3333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7"/>
          <a:stretch/>
        </p:blipFill>
        <p:spPr>
          <a:xfrm>
            <a:off x="8115480" y="3371760"/>
            <a:ext cx="863280" cy="3333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8"/>
          <a:stretch/>
        </p:blipFill>
        <p:spPr>
          <a:xfrm>
            <a:off x="1619280" y="3774960"/>
            <a:ext cx="863640" cy="3333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9"/>
          <a:stretch/>
        </p:blipFill>
        <p:spPr>
          <a:xfrm>
            <a:off x="5148360" y="3789360"/>
            <a:ext cx="86364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19080" y="1295280"/>
            <a:ext cx="910584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-4680" y="2787480"/>
            <a:ext cx="91533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3:17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